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2D06-BC98-4A5D-821F-812E0E1033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C44D-4C0B-419D-9DED-2E7A1594E5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2040" y="4414320"/>
            <a:ext cx="514656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DFEA-8E2D-43D0-B3D6-4405D3FB4F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8310-DB2E-4DE5-A89D-FE1CD44A88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6CC-BEA0-41CB-99B5-38CC6732886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3924-92F1-482E-A4EA-6C4551B5ED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_brasil-pais-de-todos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7920"/>
            <a:ext cx="1368360" cy="4842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"/>
          <p:cNvSpPr/>
          <p:nvPr/>
        </p:nvSpPr>
        <p:spPr>
          <a:xfrm>
            <a:off x="8542440" y="654516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56B-EC13-42EB-850C-CECF576FCD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2" descr="cabecalho"/>
          <p:cNvPicPr/>
          <p:nvPr/>
        </p:nvPicPr>
        <p:blipFill>
          <a:blip r:embed="rId3"/>
          <a:srcRect l="0" t="89500" r="0" b="0"/>
          <a:stretch/>
        </p:blipFill>
        <p:spPr>
          <a:xfrm>
            <a:off x="0" y="6813720"/>
            <a:ext cx="9140760" cy="71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0" y="0"/>
            <a:ext cx="9144000" cy="863640"/>
            <a:chOff x="0" y="0"/>
            <a:chExt cx="9144000" cy="863640"/>
          </a:xfrm>
        </p:grpSpPr>
        <p:pic>
          <p:nvPicPr>
            <p:cNvPr id="4" name="Picture 21" descr="cabecalho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cabecalho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600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revidencia.gov.br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22160" y="4737240"/>
            <a:ext cx="777564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BRASÍLIA, OUTUBRO DE 20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77880" y="1052640"/>
            <a:ext cx="781992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682560" y="2279520"/>
            <a:ext cx="7777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</a:rPr>
              <a:t>A título de exemplo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</a:rPr>
              <a:t>todos os Acordos preveem</a:t>
            </a: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Aposentadoria por idad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Aposentadoria por invalidez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Pensão por mort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539640" y="1268280"/>
            <a:ext cx="806292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PRINCIPAIS BENEFICIOS DOS ACORDOS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9"/>
          <p:cNvSpPr/>
          <p:nvPr/>
        </p:nvSpPr>
        <p:spPr>
          <a:xfrm>
            <a:off x="1170000" y="1844640"/>
            <a:ext cx="302400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Alemanh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Bélg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Canad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Cabo Ver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Ch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Core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Espan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Franç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4067280" y="2349360"/>
            <a:ext cx="25923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373640" y="1844640"/>
            <a:ext cx="457200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Gré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Luxembur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Itá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Portug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Jap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MERCOS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IBERO-AMERICA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55640" y="103824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EM  VIG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95160" y="126828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 BILATERAIS EM  VIG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65280" y="2202120"/>
            <a:ext cx="77436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Luxemburgo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8/196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Itália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5/8/197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Cabo Verde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7/2/1979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Grécia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9/990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Espanha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12/199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Chile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3/1996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00200" y="126828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 BILATERAIS EM  VIG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11280" y="1967400"/>
            <a:ext cx="8064360" cy="56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Brasil / Japão – 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a partir de 1/3/20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Alemanha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5/201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Portugal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(revisão)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5/201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Canadá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-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8/201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França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-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9/201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Bélgica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-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12/201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</a:rPr>
              <a:t>Brasil / Coreia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- </a:t>
            </a: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a partir de 1/11/201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85800" y="1154160"/>
            <a:ext cx="7543800" cy="76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Acordo Multilateral de Seguridade Social do Mercado Comum do Sul   (Argentina, Brasil, Paraguai e Urugua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mage003"/>
          <p:cNvPicPr/>
          <p:nvPr/>
        </p:nvPicPr>
        <p:blipFill>
          <a:blip r:embed="rId1"/>
          <a:stretch/>
        </p:blipFill>
        <p:spPr>
          <a:xfrm>
            <a:off x="7451640" y="2060640"/>
            <a:ext cx="144000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12640" y="2579040"/>
            <a:ext cx="83073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Vigência: a partir de junho de 2005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Aplicação ao Regime Geral de Previdência Social, sendo o t</a:t>
            </a:r>
            <a:r>
              <a:rPr b="0" lang="es-AR" sz="1800" spc="-1" strike="noStrike">
                <a:solidFill>
                  <a:srgbClr val="000080"/>
                </a:solidFill>
                <a:latin typeface="Arial"/>
              </a:rPr>
              <a:t>exto do Acordo redigido de forma a não excluir o funcionalismo públic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Benefícios previstos no Acordo: por idade, por invalidez, por morte, por incapacidade temporária e assistência médica (em deslocamento temporário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Possibilidade de aproveitamento de tempo contributivo de outros países que possuem acordo com pelo menos um dos Estados-Par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Permite coordenação dos regimes de capitalização individu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Operacionalização: utilização de </a:t>
            </a:r>
            <a:r>
              <a:rPr b="0" i="1" lang="pt-BR" sz="1800" spc="-1" strike="noStrike">
                <a:solidFill>
                  <a:srgbClr val="000080"/>
                </a:solidFill>
                <a:latin typeface="Arial"/>
              </a:rPr>
              <a:t>software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 desenvolvido pela DATAPREV para transferência de informações e validação de dad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90680" y="1125360"/>
            <a:ext cx="8229600" cy="76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ONVENÇÃO MULTILATERAL IBERO-AMERICANA DE SEGURANÇA SO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5280" y="2205000"/>
            <a:ext cx="829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Assinatura: 08 de novembro de 2007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Benefícios previstos no Acordo: aplica-se a legislação relativa aos regimes de Previdência Social, em razão de velhice, invalidez, morte, acidente de trabalho e doença profissio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Mantém em vigor os acordos bilaterais e multilaterais já existentes entre os Estados Par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As solicitações de benefícios devem ser analisadas e concluídas no âmbito do Acordo que for mais vantajoso para o segurado/beneficiár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Entrou em vigor em 19 de maio de 2011, quando 7 países concluíram  o processo de ratificação e o depositaram na sede da OISS (Madri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57200" y="1125360"/>
            <a:ext cx="8229600" cy="76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ONVENÇÃO MULTILATERAL IBERO-AMERICANA DE SEGURANÇA SO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7200" y="2065320"/>
            <a:ext cx="8229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22 Países fazem parte da Convenção IBERO-AMERICAN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Países cujo Acordo se encontra em vigor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No ano de 2010 – Espanha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No ano de 2011 – Bolívia, Brasil (19 de maio)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                             </a:t>
            </a: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Chile, Equador,  Paraguai e Uruguai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No ano de 2012 – El Salvador;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No ano de 2013 - Portuga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Faltam ratificar o Acordo: Andorra, Argentina, Colômbia, Costa Rica, Cuba, Guatemala, Honduras, México, Nicarágua, Panamá, Peru, República Dominicana e Venezuel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9640" y="1125360"/>
            <a:ext cx="82296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EM TRAMITAÇÃ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9640" y="1844640"/>
            <a:ext cx="8353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Quebec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– em processo de troca de not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Luxemburgo 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(revisão) – no Congresso Nac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Espanha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(revisão) – no Congresso Nac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Brasil/Suíça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– na Casa Civ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Brasil/Estados Unidos 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– na Casa Civ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CPLP – Comunidade dos Países de Língua Portuguesa </a:t>
            </a:r>
            <a:r>
              <a:rPr b="0" i="1" lang="es-ES" sz="2000" spc="-1" strike="noStrike">
                <a:solidFill>
                  <a:srgbClr val="000080"/>
                </a:solidFill>
                <a:latin typeface="Arial"/>
              </a:rPr>
              <a:t>(Angola, Brasil, Cabo Verde, Guiné-Bissau, Moçambique, Portugal, São Tomé e Príncipe e Timor-Leste) – 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laboração da EM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22360" y="1197000"/>
            <a:ext cx="82296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AGUARDANDO ASSINATUR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22360" y="2060640"/>
            <a:ext cx="829152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Cabo Verde 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– negociação em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Moçambique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- negociação em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Brasil/Israel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– negociação em 20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Austria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- negociação em 20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80"/>
                </a:solidFill>
                <a:latin typeface="Arial"/>
              </a:rPr>
              <a:t>Brasil/Bulgária</a:t>
            </a: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 - negociação em 20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491920"/>
            <a:ext cx="403884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ustrá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lova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rlan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ru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0" y="242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í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ública Tch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Sí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Sué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Ucrâ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01560" y="1125360"/>
            <a:ext cx="8229600" cy="100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EM ESTÁGIO PRELIMINAR </a:t>
            </a:r>
            <a:br>
              <a:rPr sz="3000"/>
            </a:b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DE APRECIAÇÃO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2920" y="19605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80"/>
                </a:solidFill>
                <a:latin typeface="Arial"/>
              </a:rPr>
              <a:t>(redação dada pela Lei nº 9.876, de 26.11.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i="1" lang="pt-BR" sz="2800" spc="-1" strike="noStrike">
                <a:solidFill>
                  <a:srgbClr val="000080"/>
                </a:solidFill>
                <a:latin typeface="Arial"/>
              </a:rPr>
              <a:t>Art. 85-A. Os tratados, convenções e outros acordos internacionais de que Estado estrangeiro ou organismo internacional e o Brasil sejam partes, e que versem sobre matéria previdenciária, serão interpretados como lei especia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55640" y="1168560"/>
            <a:ext cx="75438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LEI Nº 8.212, DE 24 DE JULHO DE 199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960"/>
          <p:cNvSpPr/>
          <p:nvPr/>
        </p:nvSpPr>
        <p:spPr>
          <a:xfrm>
            <a:off x="503280" y="1722600"/>
            <a:ext cx="367200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ta MPS: Até final 201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 Atingir 91% de cobertura previdenciá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té o final de 2015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Qtde de Acordos Negociados: 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Percentual de cobertura: </a:t>
            </a:r>
            <a:r>
              <a:rPr b="0" lang="pt-BR" sz="1500" spc="-1" strike="noStrike">
                <a:solidFill>
                  <a:srgbClr val="ff0000"/>
                </a:solidFill>
                <a:latin typeface="Arial"/>
              </a:rPr>
              <a:t>88,70 %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Qtde de Acordos em vigor: 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Percentual de cobertura: </a:t>
            </a:r>
            <a:r>
              <a:rPr b="0" lang="pt-BR" sz="1500" spc="-1" strike="noStrike">
                <a:solidFill>
                  <a:srgbClr val="ff0000"/>
                </a:solidFill>
                <a:latin typeface="Arial"/>
              </a:rPr>
              <a:t>40,89 %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* Acordos que aguardam a entrada em vigor (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em letra azul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4340160" y="1687680"/>
            <a:ext cx="4392720" cy="50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503280" y="1003320"/>
            <a:ext cx="82296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ACORDOS EM NÚMERO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072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3100" spc="-1" strike="noStrike">
                <a:solidFill>
                  <a:srgbClr val="000080"/>
                </a:solidFill>
                <a:latin typeface="Arial"/>
              </a:rPr>
              <a:t>Organismos de Ligação: órgãos designados pelos Estados contratantes para se comunicarem entre si e assegurarem a efetiva aplicação do Acordo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11280" y="1341360"/>
            <a:ext cx="82296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OPERACIONALIZAÇÃO DOS ACORDO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0840" y="1052640"/>
            <a:ext cx="822960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pt-BR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Retângulo 1"/>
          <p:cNvSpPr/>
          <p:nvPr/>
        </p:nvSpPr>
        <p:spPr>
          <a:xfrm>
            <a:off x="826920" y="1844640"/>
            <a:ext cx="1665360" cy="725040"/>
          </a:xfrm>
          <a:prstGeom prst="rect">
            <a:avLst/>
          </a:prstGeom>
          <a:solidFill>
            <a:srgbClr val="cc99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D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de cantos arredondados 8"/>
          <p:cNvSpPr/>
          <p:nvPr/>
        </p:nvSpPr>
        <p:spPr>
          <a:xfrm>
            <a:off x="3564000" y="1828800"/>
            <a:ext cx="4560840" cy="8028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Brasília – Bélgica, Canadá, Grécia e Luxemburg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eta para a direita 27"/>
          <p:cNvSpPr/>
          <p:nvPr/>
        </p:nvSpPr>
        <p:spPr>
          <a:xfrm>
            <a:off x="2478240" y="1989000"/>
            <a:ext cx="830160" cy="216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cc99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30"/>
          <p:cNvSpPr/>
          <p:nvPr/>
        </p:nvSpPr>
        <p:spPr>
          <a:xfrm>
            <a:off x="835200" y="2505240"/>
            <a:ext cx="1665000" cy="7250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B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de cantos arredondados 31"/>
          <p:cNvSpPr/>
          <p:nvPr/>
        </p:nvSpPr>
        <p:spPr>
          <a:xfrm>
            <a:off x="3571920" y="2489040"/>
            <a:ext cx="4560840" cy="802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Belo Horizonte – Itál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eta para a direita 32"/>
          <p:cNvSpPr/>
          <p:nvPr/>
        </p:nvSpPr>
        <p:spPr>
          <a:xfrm>
            <a:off x="2486160" y="2649600"/>
            <a:ext cx="830160" cy="216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ccec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33"/>
          <p:cNvSpPr/>
          <p:nvPr/>
        </p:nvSpPr>
        <p:spPr>
          <a:xfrm>
            <a:off x="835200" y="3144960"/>
            <a:ext cx="1665000" cy="725040"/>
          </a:xfrm>
          <a:prstGeom prst="rect">
            <a:avLst/>
          </a:prstGeom>
          <a:solidFill>
            <a:srgbClr val="ffc00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CT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ângulo de cantos arredondados 34"/>
          <p:cNvSpPr/>
          <p:nvPr/>
        </p:nvSpPr>
        <p:spPr>
          <a:xfrm>
            <a:off x="3571920" y="3127320"/>
            <a:ext cx="4560840" cy="979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Curitiba – Iberoamericano (exceto MERCOSUL e Bilateriai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ta para a direita 35"/>
          <p:cNvSpPr/>
          <p:nvPr/>
        </p:nvSpPr>
        <p:spPr>
          <a:xfrm>
            <a:off x="2486160" y="3289320"/>
            <a:ext cx="830160" cy="216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c00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17"/>
          <p:cNvSpPr/>
          <p:nvPr/>
        </p:nvSpPr>
        <p:spPr>
          <a:xfrm>
            <a:off x="835200" y="3801960"/>
            <a:ext cx="1665000" cy="725040"/>
          </a:xfrm>
          <a:prstGeom prst="rect">
            <a:avLst/>
          </a:prstGeom>
          <a:solidFill>
            <a:srgbClr val="92d05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S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ângulo de cantos arredondados 18"/>
          <p:cNvSpPr/>
          <p:nvPr/>
        </p:nvSpPr>
        <p:spPr>
          <a:xfrm>
            <a:off x="3571920" y="3882960"/>
            <a:ext cx="4560840" cy="802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São Paulo – Cabo Verde, Japão e Portuga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eta para a direita 20"/>
          <p:cNvSpPr/>
          <p:nvPr/>
        </p:nvSpPr>
        <p:spPr>
          <a:xfrm>
            <a:off x="2486160" y="3946680"/>
            <a:ext cx="830160" cy="21564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92d05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21"/>
          <p:cNvSpPr/>
          <p:nvPr/>
        </p:nvSpPr>
        <p:spPr>
          <a:xfrm>
            <a:off x="838080" y="4486320"/>
            <a:ext cx="1665360" cy="725040"/>
          </a:xfrm>
          <a:prstGeom prst="rect">
            <a:avLst/>
          </a:prstGeom>
          <a:solidFill>
            <a:srgbClr val="ff9999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RJ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de cantos arredondados 22"/>
          <p:cNvSpPr/>
          <p:nvPr/>
        </p:nvSpPr>
        <p:spPr>
          <a:xfrm>
            <a:off x="3573360" y="4470480"/>
            <a:ext cx="4560840" cy="8028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Rio de Janeiro – Espanha e Franç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eta para a direita 23"/>
          <p:cNvSpPr/>
          <p:nvPr/>
        </p:nvSpPr>
        <p:spPr>
          <a:xfrm>
            <a:off x="2487600" y="4630680"/>
            <a:ext cx="830160" cy="216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9999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24"/>
          <p:cNvSpPr/>
          <p:nvPr/>
        </p:nvSpPr>
        <p:spPr>
          <a:xfrm>
            <a:off x="820800" y="5145120"/>
            <a:ext cx="1665360" cy="725040"/>
          </a:xfrm>
          <a:prstGeom prst="rect">
            <a:avLst/>
          </a:prstGeom>
          <a:solidFill>
            <a:srgbClr val="3399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FL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de cantos arredondados 25"/>
          <p:cNvSpPr/>
          <p:nvPr/>
        </p:nvSpPr>
        <p:spPr>
          <a:xfrm>
            <a:off x="3557520" y="5129280"/>
            <a:ext cx="4559400" cy="8028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Florianópolis – Alemanha e MERCOS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eta para a direita 26"/>
          <p:cNvSpPr/>
          <p:nvPr/>
        </p:nvSpPr>
        <p:spPr>
          <a:xfrm>
            <a:off x="2470320" y="5289480"/>
            <a:ext cx="830160" cy="216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3399ff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ângulo 28"/>
          <p:cNvSpPr/>
          <p:nvPr/>
        </p:nvSpPr>
        <p:spPr>
          <a:xfrm>
            <a:off x="835200" y="5765760"/>
            <a:ext cx="1665000" cy="725040"/>
          </a:xfrm>
          <a:prstGeom prst="rect">
            <a:avLst/>
          </a:prstGeom>
          <a:solidFill>
            <a:srgbClr val="c0c0c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APSAI 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ângulo de cantos arredondados 29"/>
          <p:cNvSpPr/>
          <p:nvPr/>
        </p:nvSpPr>
        <p:spPr>
          <a:xfrm>
            <a:off x="3571920" y="5749920"/>
            <a:ext cx="4560840" cy="8028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Recife – Chi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ta para a direita 36"/>
          <p:cNvSpPr/>
          <p:nvPr/>
        </p:nvSpPr>
        <p:spPr>
          <a:xfrm>
            <a:off x="2486160" y="5910120"/>
            <a:ext cx="830160" cy="216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c0c0c0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30200" y="1052640"/>
            <a:ext cx="82296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ORGANISMOS DE LIGAÇÃO NO BRAS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250920" y="1916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Residentes no Brasil - O interessado apresenta o pedido de benefício (inclusive da legislação do outro País) ou de deslocamento temporário na Unidade/Agência do INSS mais próxima de sua residência ou de sua preferênci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Residentes no Exterior – Os requerimentos de benefícios de segurados residentes no país acordante, serão enviados pelos Organismos de Ligação dos países acordant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Maiores informações podem ser obtidas n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PREVnet – </a:t>
            </a:r>
            <a:r>
              <a:rPr b="0" lang="pt-BR" sz="2400" spc="-1" strike="noStrike" u="sng">
                <a:solidFill>
                  <a:srgbClr val="4d4d4d"/>
                </a:solidFill>
                <a:uFillTx/>
                <a:latin typeface="Arial"/>
                <a:hlinkClick r:id="rId1"/>
              </a:rPr>
              <a:t>www.previdencia.gov.br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PREVfone – 13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01680" y="1146240"/>
            <a:ext cx="854388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COMO REQUERER APLICAÇÃO DO ACORD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66760" y="1052640"/>
            <a:ext cx="856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19120" y="20858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80"/>
                </a:solidFill>
                <a:latin typeface="Arial"/>
              </a:rPr>
              <a:t>Os Acordos Internacionais, os Ajustes Administrativos e formulários acordados entre o Brasil e os países acordantes estão disponíveis no endereço eletrônico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4d4d4d"/>
                </a:solidFill>
                <a:uFillTx/>
                <a:latin typeface="Arial"/>
              </a:rPr>
              <a:t>www.previdência.gov.b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80"/>
                </a:solidFill>
                <a:latin typeface="Arial"/>
              </a:rPr>
              <a:t>selecionar o link “assuntos internacionais” e, após, “Acordos, Ajustes e formulários”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79360" y="1184400"/>
            <a:ext cx="854388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INFORMAÇÕES ADICIONA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95280" y="1406520"/>
            <a:ext cx="828036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  <a:ea typeface="Arial"/>
              </a:rPr>
              <a:t>ASSESSORIA DE ASSUNTOS INTERNACIONA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80"/>
                </a:solidFill>
                <a:latin typeface="Arial"/>
                <a:ea typeface="Arial"/>
              </a:rPr>
              <a:t>Ministério da Previdência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internacional@previdencia.gov.b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3127320" y="3008160"/>
            <a:ext cx="281484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30120" y="33447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GLOBALIZ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3440" y="50356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LIVRE COMÉR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186600" y="32702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MIGRAÇÕ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164280" y="496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TRABALHAD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477360" y="2205000"/>
            <a:ext cx="84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Necessidade de cobertura previdenciária além-fronteir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52480" y="120024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CONTEXTUALIZAÇÃ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250920" y="1927080"/>
            <a:ext cx="8569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Expressivo número de brasileiros no exterior e de estrangeiros no Brasil;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Globalização - cenário de crescimento das migrações internacionais no futuro e necessidade de coordenação entre os sistemas de Seguridade Socia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Necessidade de proteção previdenciária de brasileiro no exterio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80"/>
                </a:solidFill>
                <a:latin typeface="Arial"/>
              </a:rPr>
              <a:t>Mecanismo de política externa e integração com os demais paíse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852480" y="120024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CONTEXTUALIZAÇÃ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90792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1917720"/>
            <a:ext cx="83520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Ampliação da cobertura de proteção socia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Fluxos migratórios atuais ou passado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Existência de fluxos de investimentos internacionais significativos entre ambos país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Elevado volume de comércio exterior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Fluxo de deslocamentos temporários de trabalhadores entre os países e a conveniência de evitar-se a dupla contribuição previdenciár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380880" y="1157400"/>
            <a:ext cx="846612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PONTOS RELEVANTES PARA A DECISÃO DE FIRMAR </a:t>
            </a:r>
            <a:br>
              <a:rPr sz="2400"/>
            </a:b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ACORDOS INTERNACIONAIS DE PREVIDÊNCIA SO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457200" y="2355840"/>
            <a:ext cx="814716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Existem no Brasil cerca de 850 mil estrangeiros cadastrados e em situação regular, de acordo com dados do ano de 2010 fornecidos pela Divisão de Cadastro e Registro de Estrangeiros – DICRE do Departamento de Polícia Federal – DP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O número de brasileiros no exterior está estimado em 2.547.079, de acordo com o documento “Diplomacia Consular 2007-2012” publicado pela Subsecretaria-Geral das Comunidades Brasileiras no Exterior do Ministério das Relações Exteriores - M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758880" y="1062000"/>
            <a:ext cx="75438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ESTRANGEIROS NO BRASIL &amp; BRASILEIROS NO EXTERI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Inserem-se na política externa brasileira, conduzida pelo Ministério das Relações Exteriores e resultam dos esforços do Ministério da Previdência Social e dos entendimentos diplomáticos entre govern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Proporcionam a totalização dos período de contribuição no Brasil e nos países acordantes para fins de concessão de benefícios em um ou mais países, sempre proporcionalmente ao respectivo tempo de contribuiçã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Protegem os direitos previdenciários dos trabalhadores migrant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Evitam dupla-contribuição previdenciária em relação aos trabalhadores temporariamente transferi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900000" y="105876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OBJETIVOS DOS ACORDO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96480" y="2328480"/>
            <a:ext cx="74278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O Acordo será aplicado a pessoas que estejam ou tenham estado sujeitas a  legislação de um Estado Contratante, assim como seus depen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915840" y="1484280"/>
            <a:ext cx="75438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PREVISÃO DE COBERTU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95280" y="1844640"/>
            <a:ext cx="8280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Os Acordos Internacionais de Previdência Social são os instrumentos jurídicos que têm por fim assegurar proteção social aos trabalhadores envolvidos em movimentos migratórios e, normalmente, preve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a) totalização dos períodos contributivos, especialmente para as prestações relacionadas com a velhice, a invalidez e a morte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b) regras para a apuração do valor teórico com base no total dos períodos contributivos e para o cálculo do valor da prestação devida “pró-rata tempore”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pt-BR" sz="2200" spc="-1" strike="noStrike">
                <a:solidFill>
                  <a:srgbClr val="000080"/>
                </a:solidFill>
                <a:latin typeface="Arial"/>
              </a:rPr>
              <a:t>c) regras especiais de filiação dos trabalhadores nos casos de deslocamentos para o desempenho de atividades temporárias</a:t>
            </a:r>
            <a:r>
              <a:rPr b="0" lang="pt-BR" sz="2200" spc="-1" strike="noStrike">
                <a:solidFill>
                  <a:srgbClr val="000080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900000" y="1125360"/>
            <a:ext cx="75438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80"/>
                </a:solidFill>
                <a:latin typeface="Arial"/>
              </a:rPr>
              <a:t>OBJETO MATERIAL DOS ACORDO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10:19Z</dcterms:created>
  <dc:creator>Administrador</dc:creator>
  <dc:description/>
  <dc:language>en-US</dc:language>
  <cp:lastModifiedBy>Silvia Maria de Pinho Ferreira - MPS</cp:lastModifiedBy>
  <cp:lastPrinted>2014-04-25T13:36:59Z</cp:lastPrinted>
  <dcterms:modified xsi:type="dcterms:W3CDTF">2015-10-19T14:25:03Z</dcterms:modified>
  <cp:revision>355</cp:revision>
  <dc:subject/>
  <dc:title>Slide 1</dc:title>
</cp:coreProperties>
</file>